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9A65-783F-4A6D-8F31-CCC401C0F1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8921-8DBF-44B7-B7E8-B547D2E82564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B1D8-D765-423C-A818-257CA984FB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F1D5-AC1D-40CD-94FB-2804D78DAA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D2EB-815C-4F79-9CA2-E0F55D4CC4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BF4F-9196-4D03-B7CF-C6E133B092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E39-F100-47AA-8014-B08B396A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E14-F764-4505-A6C0-8979A5B4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7CF-5E2E-4035-B95A-C5CE7958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0A9-FDC1-47E5-90C8-26930128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A8B-4BA7-40FD-976D-AF101623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84B-7285-4D74-9B8C-6299695C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02A-A101-4183-B5F0-28FDF1D1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0D8A-34AD-4366-91C0-32378B2F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5D3-A6E6-48EF-B2C5-0B7D714A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803C-88A8-4DB8-B1D8-12472975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70B-9346-4BDC-8282-183F8CA8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C42-7B95-4202-9F0F-F979CF6D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A8D5-DF82-4D31-9B06-26E50F147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"/>
          <p:cNvSpPr/>
          <p:nvPr/>
        </p:nvSpPr>
        <p:spPr>
          <a:xfrm>
            <a:off x="480600" y="2022480"/>
            <a:ext cx="23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Bilan des analy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 8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H= 21 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AC= 6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2"/>
          <p:cNvSpPr/>
          <p:nvPr/>
        </p:nvSpPr>
        <p:spPr>
          <a:xfrm>
            <a:off x="212760" y="3767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n utilise l’échelle de Taylor pour déterminer le pH idéal de l’eau de 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tableau_Ph-b"/>
          <p:cNvPicPr/>
          <p:nvPr/>
        </p:nvPicPr>
        <p:blipFill>
          <a:blip r:embed="rId1"/>
          <a:stretch/>
        </p:blipFill>
        <p:spPr>
          <a:xfrm>
            <a:off x="3564000" y="1793880"/>
            <a:ext cx="4064040" cy="4562640"/>
          </a:xfrm>
          <a:prstGeom prst="rect">
            <a:avLst/>
          </a:prstGeom>
          <a:ln w="0">
            <a:noFill/>
          </a:ln>
        </p:spPr>
      </p:pic>
      <p:sp>
        <p:nvSpPr>
          <p:cNvPr id="99" name="Connecteur droit 4"/>
          <p:cNvSpPr/>
          <p:nvPr/>
        </p:nvSpPr>
        <p:spPr>
          <a:xfrm>
            <a:off x="4427640" y="3645000"/>
            <a:ext cx="2520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lipse 8"/>
          <p:cNvSpPr/>
          <p:nvPr/>
        </p:nvSpPr>
        <p:spPr>
          <a:xfrm>
            <a:off x="5364000" y="4075200"/>
            <a:ext cx="655920" cy="36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212760" y="5200560"/>
            <a:ext cx="32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idéal est de 7,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actuel est trop éle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3"/>
          <p:cNvSpPr/>
          <p:nvPr/>
        </p:nvSpPr>
        <p:spPr>
          <a:xfrm>
            <a:off x="693720" y="1836720"/>
            <a:ext cx="72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document 4 nous renseigne sur le traitement quantitatif à cond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2654280"/>
          <a:ext cx="6697800" cy="2405160"/>
        </p:xfrm>
        <a:graphic>
          <a:graphicData uri="http://schemas.openxmlformats.org/drawingml/2006/table">
            <a:tbl>
              <a:tblPr/>
              <a:tblGrid>
                <a:gridCol w="1011240"/>
                <a:gridCol w="517680"/>
                <a:gridCol w="515880"/>
                <a:gridCol w="517320"/>
                <a:gridCol w="516240"/>
                <a:gridCol w="517320"/>
                <a:gridCol w="517680"/>
                <a:gridCol w="515880"/>
                <a:gridCol w="517680"/>
                <a:gridCol w="515880"/>
                <a:gridCol w="517320"/>
                <a:gridCol w="517680"/>
              </a:tblGrid>
              <a:tr h="2109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souha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H idé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11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mesuré (Votre pH actu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Ellipse 7"/>
          <p:cNvSpPr/>
          <p:nvPr/>
        </p:nvSpPr>
        <p:spPr>
          <a:xfrm>
            <a:off x="2124000" y="3284640"/>
            <a:ext cx="43200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0"/>
          <p:cNvSpPr/>
          <p:nvPr/>
        </p:nvSpPr>
        <p:spPr>
          <a:xfrm>
            <a:off x="759960" y="2314440"/>
            <a:ext cx="76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Quantité de « pH moins » à verser dans la piscine (en g.m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, grammes par mètre cube d’eau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567000" y="5153040"/>
            <a:ext cx="68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l va falloir ajouter 9,0 g de « pH moins », par mètre cube d’eau de pi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12"/>
          <p:cNvSpPr/>
          <p:nvPr/>
        </p:nvSpPr>
        <p:spPr>
          <a:xfrm>
            <a:off x="1101240" y="550548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de la piscine: (largeur à mesurer) 10x25X2,5 = 625 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3"/>
          <p:cNvSpPr/>
          <p:nvPr/>
        </p:nvSpPr>
        <p:spPr>
          <a:xfrm>
            <a:off x="2563560" y="5952960"/>
            <a:ext cx="3658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it: 625x9 = 5 625 g de « pH moin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Connecteur droit avec flèche 15"/>
          <p:cNvCxnSpPr/>
          <p:nvPr/>
        </p:nvCxnSpPr>
        <p:spPr>
          <a:xfrm>
            <a:off x="817200" y="3357360"/>
            <a:ext cx="5151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Connecteur droit avec flèche 20"/>
          <p:cNvCxnSpPr/>
          <p:nvPr/>
        </p:nvCxnSpPr>
        <p:spPr>
          <a:xfrm>
            <a:off x="2339640" y="2622240"/>
            <a:ext cx="1080" cy="354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50920" y="177120"/>
            <a:ext cx="8569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50920" y="32536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"/>
          <p:cNvSpPr/>
          <p:nvPr/>
        </p:nvSpPr>
        <p:spPr>
          <a:xfrm>
            <a:off x="1332000" y="2708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quantité de « pH moins » trouvée peut paraître impor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pratique elle ne serait pas mise brutalement mais par ajout successifs sur plusieurs jours avec un contrôle journalier du 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En particulier pour ne pas dérégler le TAC comme indiqué dans le document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3" descr=""/>
          <p:cNvPicPr/>
          <p:nvPr/>
        </p:nvPicPr>
        <p:blipFill>
          <a:blip r:embed="rId1"/>
          <a:stretch/>
        </p:blipFill>
        <p:spPr>
          <a:xfrm>
            <a:off x="1866960" y="1560600"/>
            <a:ext cx="55134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Thème 1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Eau et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341360"/>
          <a:ext cx="8208720" cy="1656000"/>
        </p:xfrm>
        <a:graphic>
          <a:graphicData uri="http://schemas.openxmlformats.org/drawingml/2006/table">
            <a:tbl>
              <a:tblPr/>
              <a:tblGrid>
                <a:gridCol w="2711520"/>
                <a:gridCol w="549720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e d’é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s-cl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u et 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production d’eau potabl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ement des eaux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ressources minérales et organiques des océa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hydrates de 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4360" y="3508200"/>
            <a:ext cx="7920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17375e"/>
                </a:solidFill>
                <a:uFillTx/>
                <a:latin typeface="Arial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Agir :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Contrôle de la qualité par dosag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osage par titrage direct; repérage de l’équivalence par utilisation d’un indicateur de fin de ré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7375e"/>
                </a:solidFill>
                <a:latin typeface="Arial"/>
              </a:rPr>
              <a:t>Pratiquer une démarche expérimentale pour déterminer la concentration d’une espèce par titrage par la visualisation d’un changement de couleur dans le domaine du contrôle de la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80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58920" y="858960"/>
            <a:ext cx="66261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obléma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L’eau de la piscine est-elle adaptée à la baignade? Sinon, quel traitement quantitatif faut-il effectuer pour la rendre accessi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9280" y="620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Matériel nécessaire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H-mètre étalonné et sa notice d’utilis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n ruban de papier p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burettes graduées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verre à p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4 béchers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erlenmeyer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50 ou une pipette jaugée de 50 mL et sa propipet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agitateur magnétique et son barreau aim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issette d’eau distillé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apier fil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unettes de protection et g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roduits à disposition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d’EDTA à 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mol.L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25 mL d’eau de piscine à te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tampon 10 ( 25 mL sont nécessaire pour 1 dosa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olution de Noir Eriochrome T (N.E.T) en flacon compte-gout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468360" y="-27000"/>
            <a:ext cx="8280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124080" y="6448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412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poser une méthode pour mesurer le pH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élève propose de mesurer le pH de l’eau de piscine à l’aide du pH-mètre dans un soucis de préci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- Proposer une méthode pour déterminer le titre hydrotimétrique (TH)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parer le titrage en choisissant une prise d’essai de 50 mL, en ajoutant 5 gouttes de solution de NET et 25 mL de solution tamp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aliser le titrage, relever le volume équivalent et déterminer le 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1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esure du pH de l’eau de pis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space réservé du contenu 4" descr=""/>
          <p:cNvPicPr/>
          <p:nvPr/>
        </p:nvPicPr>
        <p:blipFill>
          <a:blip r:embed="rId1"/>
          <a:srcRect l="24497" t="16554" r="0" b="0"/>
          <a:stretch/>
        </p:blipFill>
        <p:spPr>
          <a:xfrm>
            <a:off x="1619280" y="1116000"/>
            <a:ext cx="6041880" cy="5008680"/>
          </a:xfrm>
          <a:prstGeom prst="rect">
            <a:avLst/>
          </a:prstGeom>
          <a:ln w="0">
            <a:noFill/>
          </a:ln>
        </p:spPr>
      </p:pic>
      <p:cxnSp>
        <p:nvCxnSpPr>
          <p:cNvPr id="69" name="Connecteur droit avec flèche 6"/>
          <p:cNvCxnSpPr>
            <a:endCxn id="68" idx="3"/>
          </p:cNvCxnSpPr>
          <p:nvPr/>
        </p:nvCxnSpPr>
        <p:spPr>
          <a:xfrm>
            <a:off x="6443640" y="3619080"/>
            <a:ext cx="12182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lg" type="triangle" w="lg"/>
          </a:ln>
        </p:spPr>
      </p:cxnSp>
      <p:sp>
        <p:nvSpPr>
          <p:cNvPr id="70" name="ZoneTexte 13"/>
          <p:cNvSpPr/>
          <p:nvPr/>
        </p:nvSpPr>
        <p:spPr>
          <a:xfrm>
            <a:off x="7767360" y="32544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8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 10" descr=""/>
          <p:cNvPicPr/>
          <p:nvPr/>
        </p:nvPicPr>
        <p:blipFill>
          <a:blip r:embed="rId1"/>
          <a:srcRect l="28679" t="39923" r="50001" b="10800"/>
          <a:stretch/>
        </p:blipFill>
        <p:spPr>
          <a:xfrm>
            <a:off x="1116000" y="1192320"/>
            <a:ext cx="3008160" cy="3981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1"/>
          <p:cNvSpPr/>
          <p:nvPr/>
        </p:nvSpPr>
        <p:spPr>
          <a:xfrm>
            <a:off x="4485240" y="11923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erlenmeyer de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e d’essai eau de piscine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 gouttes de solution de N.E.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tampon 2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itateur magné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2"/>
          <p:cNvSpPr/>
          <p:nvPr/>
        </p:nvSpPr>
        <p:spPr>
          <a:xfrm>
            <a:off x="4556160" y="323676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burette grad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ED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 2" descr=""/>
          <p:cNvPicPr/>
          <p:nvPr/>
        </p:nvPicPr>
        <p:blipFill>
          <a:blip r:embed="rId1"/>
          <a:srcRect l="28735" t="0" r="29526" b="0"/>
          <a:stretch/>
        </p:blipFill>
        <p:spPr>
          <a:xfrm>
            <a:off x="755640" y="958680"/>
            <a:ext cx="381636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5508720" y="1008000"/>
            <a:ext cx="28638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2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alisation et exploitation du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 3" descr=""/>
          <p:cNvPicPr/>
          <p:nvPr/>
        </p:nvPicPr>
        <p:blipFill>
          <a:blip r:embed="rId1"/>
          <a:stretch/>
        </p:blipFill>
        <p:spPr>
          <a:xfrm>
            <a:off x="474840" y="1198440"/>
            <a:ext cx="265896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5"/>
          <p:cNvSpPr/>
          <p:nvPr/>
        </p:nvSpPr>
        <p:spPr>
          <a:xfrm>
            <a:off x="3729600" y="1484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Fin du titrage: couleur bleu « pur 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3735360" y="20574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versé à l’équivalence: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q= 10,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1"/>
          <p:cNvSpPr/>
          <p:nvPr/>
        </p:nvSpPr>
        <p:spPr>
          <a:xfrm>
            <a:off x="3301920" y="2705040"/>
            <a:ext cx="551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ploitation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 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) x V (prise d’essai) = C(EDTA) x V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près développement et application numérique on trouv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= 0,0021 mol.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e qui correspond à un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 de 21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d.duthoit</dc:creator>
  <dc:description/>
  <dc:language>en-US</dc:language>
  <cp:lastModifiedBy>damien duthoit</cp:lastModifiedBy>
  <dcterms:modified xsi:type="dcterms:W3CDTF">2018-04-10T13:13:15Z</dcterms:modified>
  <cp:revision>72</cp:revision>
  <dc:subject/>
  <dc:title>Diapositive 1</dc:title>
</cp:coreProperties>
</file>